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fastca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BB2-246B-4322-9C86-02250A54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23D-8B3F-4E11-9E72-B3194D28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05A-A6F5-4B68-87A2-A06DAF8D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D14-B508-40F3-B2EC-6C50E845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DE8-EC32-4A54-A671-BF3500DD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A48-3F90-47EE-8B1A-289D524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6F1-118D-4866-978F-AAE68961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7E5A-A62E-406F-827F-1EFE279B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A4B-59E3-4864-BB13-504F618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45D9-DE3C-4809-B146-7F56BD4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400-5EFB-49F4-B075-EF2596BC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7AF-A352-4356-9E1F-78CBA426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9C5-2445-49B3-8AEF-B0244A911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fastca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fastca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fastca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fastca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fastcar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17400" y="1428840"/>
                <a:ext cx="6145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146320" y="2298600"/>
                <a:ext cx="447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407200" y="2327400"/>
                <a:ext cx="44892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animMotion origin="layout" path="M 2.22222E-006 8.14815E-006 C 2.22222E-006 8.14815E-006 0.2717 -0.23564 0.5434 -0.47106 E">
                                      <p:cBhvr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66760" y="1353960"/>
                <a:ext cx="785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565360" y="2306520"/>
                <a:ext cx="492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866960" y="2201760"/>
                <a:ext cx="15271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71600" y="3181320"/>
                <a:ext cx="809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556240" y="2265480"/>
                <a:ext cx="85392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2080" y="2289240"/>
                <a:ext cx="1033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302520" y="3121200"/>
                <a:ext cx="763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28507 -0.21018 0.57014 -0.4199 E">
                                      <p:cBhvr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0280" y="1352520"/>
                <a:ext cx="88837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9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70120" y="2376360"/>
                <a:ext cx="8049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692440" y="2374920"/>
                <a:ext cx="103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71600" y="3181320"/>
                <a:ext cx="809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969240" y="2355840"/>
                <a:ext cx="4953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892840" y="2343240"/>
                <a:ext cx="1033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310440" y="3135240"/>
                <a:ext cx="8078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28507 -0.21018 0.57014 -0.4199 E">
                                      <p:cBhvr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38240" y="1494000"/>
                <a:ext cx="6461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and  16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97160" y="2382840"/>
                <a:ext cx="35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36720" y="2374920"/>
                <a:ext cx="9432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25560" y="3181320"/>
                <a:ext cx="449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443640" y="2419200"/>
                <a:ext cx="4492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28507 -0.21018 0.57014 -0.4199 E">
                                      <p:cBhvr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expressions are equival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826920" y="1332000"/>
                <a:ext cx="6729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43320" y="2406600"/>
                <a:ext cx="492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71800" y="2249640"/>
                <a:ext cx="13921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 txBox="1"/>
          <p:nvPr/>
        </p:nvSpPr>
        <p:spPr>
          <a:xfrm>
            <a:off x="-1601640" y="6567480"/>
            <a:ext cx="128556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038320" y="4202280"/>
                <a:ext cx="121464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88160" y="2403360"/>
                <a:ext cx="4950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364440" y="2308320"/>
                <a:ext cx="944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43480" y="3325680"/>
                <a:ext cx="854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308240" y="3365640"/>
                <a:ext cx="25588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1.11111E-006 -4.44444E-006 C 1.11111E-006 -4.44444E-006 0.30417 -0.19236 0.60833 -0.38425 E">
                                      <p:cBhvr>
                                        <p:cTn id="250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1, 2 – 4 #1-1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23T13:52:01Z</dcterms:modified>
  <cp:revision>55</cp:revision>
  <dc:subject/>
  <dc:title>Slide 1</dc:title>
</cp:coreProperties>
</file>